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BF5-4F68-4243-B8AA-36F65033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492-1024-40F8-BE1D-4BCEDEBD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E13-5747-4F6D-AE59-BF1E5A43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4F7-919B-4C5C-8883-E18A640A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60C-FE29-40C2-BFE3-8AA18C85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D56-17BD-4F85-99E2-40B7DCA6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5F7-79FE-49AC-88E4-78F8EFE3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43E-508D-40E4-BBE0-43238E99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8F6-A1F8-4C87-9229-474BA6C6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25E-8CE5-4843-B1CA-746ABED7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0CD-16DF-43B5-9025-A970B9CD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518-B0A7-4E65-83F9-DC4A3620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A38F-55FA-4010-89CA-991776BCC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99061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9061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906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8080" y="533520"/>
            <a:ext cx="174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ème de la réu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0" y="1828800"/>
            <a:ext cx="50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bjectif de la réunion (résultat à atteindre à la fin de la réu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2720" y="2971800"/>
            <a:ext cx="70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n de la réunion (animateur, rapporteur, points abordés, durée de chaque séquence,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CHE DE PREPARATION DE RE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8:21Z</dcterms:modified>
  <cp:revision>71</cp:revision>
  <dc:subject/>
  <dc:title>Contrôle interne des risques</dc:title>
</cp:coreProperties>
</file>